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2BA6-618D-4EA5-B545-F2D6C746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B9F-5084-4D26-A091-313239C1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E8B-6839-4DBD-B9F7-79CA044A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323-4DFC-4102-B656-F053612A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1F8-5C6C-4A40-92AB-AB8AA4D5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8C1-0F81-4C5B-A4B5-D05BC31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53A-42E5-480C-81E4-AAF7D181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541-C271-4887-98B8-AFCF77E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D1F-3EA4-4FB7-B2B3-CCEBB46B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358-EC7D-4362-ABB8-0C3BE796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9CC-F626-424F-9DF7-E2F8EE1D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804-C3CF-4122-8FC3-B8E8E2DA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1F86-0091-4E75-B2E2-FAB2E35DA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Picture 6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8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617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>
              <a:gd name="textAreaLeft" fmla="*/ 70560 w 228600"/>
              <a:gd name="textAreaRight" fmla="*/ 158040 w 22860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399"/>
                </a:lnTo>
                <a:lnTo>
                  <a:pt x="114300" y="116422"/>
                </a:lnTo>
                <a:lnTo>
                  <a:pt x="43659" y="152399"/>
                </a:lnTo>
                <a:lnTo>
                  <a:pt x="70642" y="941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isterLiz</cp:lastModifiedBy>
  <dcterms:modified xsi:type="dcterms:W3CDTF">2012-11-15T19:50:52Z</dcterms:modified>
  <cp:revision>42</cp:revision>
  <dc:subject/>
  <dc:title>No Slide Title</dc:title>
</cp:coreProperties>
</file>