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9E94-FD74-40EA-AA55-D3B799A4151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7837-513B-46B4-BDE7-C530BF68365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EBE16-119E-44C8-9077-B5BC93E4B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33661-64ED-473A-81FD-2099B1AD5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98A8B-9226-42F6-AFE8-783003951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2DB7B-77C6-4299-A4CE-05BD7DF85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388C3-49A1-4405-B729-01C0CEFF9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038E7-7469-4180-9F25-B4CD0020D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6964-099E-49E1-B867-1A53424F5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1767F-B715-4845-94AB-558F0319B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AEA7D-EDDD-4A89-B9F4-DA3DC7E25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AD44-A704-43F3-877A-983E7EDB3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2429-0072-4A0A-A99A-6CD740652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0FCCE-BC28-41D7-8744-E10B579F1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C460-EC3E-46BC-8F6D-2D7084943AE3}"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D</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E</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C</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A</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SisterLiz</cp:lastModifiedBy>
  <dcterms:modified xsi:type="dcterms:W3CDTF">2012-11-15T19:47:06Z</dcterms:modified>
  <cp:revision>24</cp:revision>
  <dc:subject/>
  <dc:title>No Slide Title</dc:title>
</cp:coreProperties>
</file>