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DD1D-CD4A-4802-B257-37E75139C78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7144-810F-482D-8F57-21FC7023290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ADC5E-67E9-4FE5-8191-3B3BC6A56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DAD05-BDF8-4988-B7F8-B04ADB9AE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3E9E0-2AE9-4131-BE27-B66DDA43B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BE279-DB30-4EEF-98DC-F64E2728D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C8AFB-FCEA-4B53-9564-777F2CAA9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126A3-5380-4C71-8B60-BB57CBFA3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45C96-23A5-4A47-A89B-8CCA34B9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D8905-AA35-4C72-8AD0-F84545B7A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5D770-8434-4AC7-8D42-56C802FE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F0FC-2187-4695-B068-13576716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7CBEE-3AC0-4651-B029-D1170912E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51A2-102A-42D6-8AB1-83719A47A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D1EE-A5D6-4E4F-B971-DF6F36ACABFC}"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isterLiz</cp:lastModifiedBy>
  <dcterms:modified xsi:type="dcterms:W3CDTF">2012-11-15T19:47:06Z</dcterms:modified>
  <cp:revision>24</cp:revision>
  <dc:subject/>
  <dc:title>No Slide Title</dc:title>
</cp:coreProperties>
</file>