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6A58-481C-4A18-847E-33C3E0AC6E8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F8A7-7356-4E83-B1ED-E5E31AC02B58}"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6956E-20B8-42C9-A7B3-513F065BD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9040F-CAF6-45CA-B7CB-3E1B6159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75969-A445-48EF-A030-93B67049D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C2906-13DE-43E3-BECC-183AC7A1B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2A087-BAB8-4E7B-9F19-0420205A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D161B-A4C7-4476-A259-EC3670F55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A82ED-E9F4-448A-AE97-E2832EC05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8F741-429D-4EDC-B38C-2CABD8FD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11B7E-16BF-492A-86AB-F3CE4131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1CEC4-EF5F-4122-A7A7-D9687367A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75B7-3AD9-4E58-99CE-85E9781F5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BEE4B-34F3-4EFB-9DC7-8557122C7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F611-91E3-4EEA-B987-ECA00977BAF7}"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b</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D</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E</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C</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A</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SisterLiz</cp:lastModifiedBy>
  <dcterms:modified xsi:type="dcterms:W3CDTF">2012-11-15T19:47:06Z</dcterms:modified>
  <cp:revision>24</cp:revision>
  <dc:subject/>
  <dc:title>No Slide Title</dc:title>
</cp:coreProperties>
</file>